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984-A6BE-42D1-A13B-E5E1C3FC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BE4-EEC7-47C4-B720-1A11963D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896-FBE8-4AF2-9C5A-F8CA74A2C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A7C-C9FA-4887-8E36-6C072932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E420-B16C-4867-AC0E-0E5F393F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50F6-662C-4951-A2BA-83D3059E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4591-AB84-46DD-ABC0-A4A96A50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8B53-FB8B-403F-A373-1CF10407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C8E-1CBE-4670-A5CB-706E8552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B086-1BBD-443F-8F2A-2DC56C5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465-1738-42EA-A398-9E2431C3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0823-21A5-480A-9AD2-A2FFF447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8C3B-FFED-408C-A9FE-C75914140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standing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Faculty:HolmgrS:Desktop:Understanding_DNA.mov" descr=""/>
          <p:cNvPicPr/>
          <p:nvPr/>
        </p:nvPicPr>
        <p:blipFill>
          <a:blip r:embed="rId1"/>
          <a:stretch/>
        </p:blipFill>
        <p:spPr>
          <a:xfrm>
            <a:off x="609480" y="1906560"/>
            <a:ext cx="78487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2:41:41Z</dcterms:created>
  <dc:creator>NHS NPS</dc:creator>
  <dc:description/>
  <dc:language>en-US</dc:language>
  <cp:lastModifiedBy>NHS NPS</cp:lastModifiedBy>
  <dcterms:modified xsi:type="dcterms:W3CDTF">2012-01-24T12:42:53Z</dcterms:modified>
  <cp:revision>1</cp:revision>
  <dc:subject/>
  <dc:title>DNA</dc:title>
</cp:coreProperties>
</file>